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744-A6D7-418C-B3BA-C45D1F03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97B-CDC8-413E-952D-A4E8D2F0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CFD8-9A48-4419-8A6D-8924CC0A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8C7-085A-4FCD-A8EF-07EADDA5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DF33-9324-4B6B-9D36-0FD0B0A6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4C6-A11F-40C1-810C-46B58879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D57-0E25-4083-92CF-8C595BEE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169-C7FF-401D-AF7C-9E7860B1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000-E634-43E8-8DB5-E918F57C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DCF-A162-480B-B0DD-66D92ADF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C45-AB67-4FA6-84AB-8FCAA184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E8F-F610-47F7-A503-8C31785F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F7B1-40D1-4848-B8F1-95A65A582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"/>
          <p:cNvSpPr/>
          <p:nvPr/>
        </p:nvSpPr>
        <p:spPr>
          <a:xfrm>
            <a:off x="179280" y="289080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如何搭建旅游企业的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百度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网络营销平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0"/>
          <p:cNvSpPr/>
          <p:nvPr/>
        </p:nvSpPr>
        <p:spPr>
          <a:xfrm>
            <a:off x="5508720" y="270828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819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搜索推广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大领先优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客户覆盖面广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覆盖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国网民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全球最大的中文网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覆盖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个国家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每天响应数亿次搜索请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据艾瑞的最新调研数据显示（右图）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中国用户最常使用的搜索引擎为百度，份额上升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.2%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领先优势继续扩大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按效果付费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完全按照给企业带来的潜在客户点击计费，没有点击不计费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费用统计报告让景区的投入明明白白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科学的管理平台可以灵活控制推广力度和资金投放，投资回报更高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针对性强，轻松锁定目标客户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百度推广帮助景区准确锁定目标客户，针对性强，投资回报更高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通过关键词锁定有需求的客户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选择所希望推广的关键词，景区推广信息就会出现在搜索这些关键词的潜在客户面前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通过地域筛选、时间筛选，锁定最需要的客户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将景区的推广信息，按景区设定的地域、时间进行投放，精确覆盖特定地区、特定时间段的潜在客户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4" descr="http://e.baidu.com/pic.JPG"/>
          <p:cNvPicPr/>
          <p:nvPr/>
        </p:nvPicPr>
        <p:blipFill>
          <a:blip r:embed="rId2"/>
          <a:stretch/>
        </p:blipFill>
        <p:spPr>
          <a:xfrm>
            <a:off x="5796000" y="981000"/>
            <a:ext cx="1800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.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网盟推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网盟推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种网络定向推广服务，使企业用户有机会在数万家网站显示推广信息，拥有更多的推广展现机会。网盟推广提供的更多的展现空间、更高的浏览量和曝光率，可有效帮助您提升推广覆盖力度，从更多角度覆盖潜在用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网盟推广展现形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5" descr="1"/>
          <p:cNvPicPr/>
          <p:nvPr/>
        </p:nvPicPr>
        <p:blipFill>
          <a:blip r:embed="rId2"/>
          <a:stretch/>
        </p:blipFill>
        <p:spPr>
          <a:xfrm>
            <a:off x="468360" y="1268280"/>
            <a:ext cx="81360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1666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网盟推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36100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元展示推广信息、强力吸引顾客眼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兼容百度搜索推广创意格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支持图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动画等多样创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支持图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动画的尺寸多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线工具支持，轻松制作图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动画创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5" descr="3"/>
          <p:cNvPicPr/>
          <p:nvPr/>
        </p:nvPicPr>
        <p:blipFill>
          <a:blip r:embed="rId2"/>
          <a:stretch/>
        </p:blipFill>
        <p:spPr>
          <a:xfrm>
            <a:off x="4643280" y="2276640"/>
            <a:ext cx="3745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900000" y="907920"/>
            <a:ext cx="727236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投入回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帮助企业迅速升提高销售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每天都在关注销售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据的变化曲线，而数以万计的百度推广客户用亲身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体验证明，百度推广低投入，高产出，可以帮助企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在短时间内迅速提升销售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、使用百度推广后，可为带来更多的电话咨询和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站流量，让的潜在客户主动给帮助扩大品牌知名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通过百度，将有更多和公平的机会与业内公司，与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际性大公司同台竞技，获取客户关注，助扩大品牌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名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、为带来更多的电话咨询和网站流量，客户打电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给网站带来更多订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971640" y="476280"/>
            <a:ext cx="77724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三 旅游企业使用网络营销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建立旅游企业网站并进行有效维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其中最为重要的一点是保持网站信息的更新，旅游行程的发布和变更，借助网络平台的整体推广，从而吸引搜索引擎的抓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另一方面要加强内链和外链的建设，适当的与当地致命的网站做友情链接，提高网站的权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对于同行的营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行社相互之间也需要宣传、营销，日常的外联工作很重要。每年各地的网络交流会大家都会聚集在一起，认识一下。应该会找到一些志同道合的合作伙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1619280" y="1052640"/>
            <a:ext cx="59770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．社区营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旅行社都可以在社区里为需要服务的游客提供相应的服务，多多回答客人留下的每一个问题。也可以以公益活动的名义，发起一些活动，把活动和旅游有机结合起来，做到对旅游线路的网络宣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．结识新客户，别忘了老客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旅行社来讲，维护老客户关系是一项很重要的工作，要花时间收集、分类和整理老客户资料，定期对老客户通过发邮件、短信、电话等方式回访。在维护老客户关系的同时，不断挖掘新的客户，依次循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1258920" y="549360"/>
            <a:ext cx="69134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旅游企业搜索引擎营销的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握推广时期（旅游行业淡旺季明显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建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在不同时段采用不同搜索引擎力度，可以实现迅速提升市场，达成订单的目的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了解网民搜索时间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建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要保持长期持续推广，从而保证网络推广时间充足，防止潜在网民的流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择大流量搜索引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建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例如流量最大的中文搜索百度，是带来更多效果的基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403280" y="1125360"/>
            <a:ext cx="633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总结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谁抓住潜在客户的眼球，谁就是市场的胜利者，利用全球最大中文搜索引擎百度这个平台，再加上传统的宣传方法。一定能让景区通过网络，走向世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抓住顾客的眼球，深入顾客的内心，不断强化其品牌形象，不断汇聚其品牌人气，不断带来商机，成就在行业的领先地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​​ 1"/>
          <p:cNvSpPr/>
          <p:nvPr/>
        </p:nvSpPr>
        <p:spPr>
          <a:xfrm>
            <a:off x="1042920" y="2133720"/>
            <a:ext cx="626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成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息光媛 黄莉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董燕飞 张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1403280" y="358092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百度推广是一种按效果付费的网络推广方式，用少量的投入就可以给企业带来大量的潜在客户，有效提升企业销售额和品牌知名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了能够迅速的提高景区的形象和知名度，可以通过百度搜索引擎的推广，从而实现企业的最终的营销战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2050920" y="981000"/>
            <a:ext cx="60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度搜索推广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坐等客户，坐拥商机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0"/>
          <p:cNvSpPr/>
          <p:nvPr/>
        </p:nvSpPr>
        <p:spPr>
          <a:xfrm>
            <a:off x="720" y="3708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行楷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2808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搜索推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搜索：网民在百度搜索自己关注的关键词信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464280" y="2399040"/>
            <a:ext cx="22154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666666"/>
                </a:solidFill>
                <a:latin typeface="Arial"/>
                <a:ea typeface="Times New Roman"/>
              </a:rPr>
              <a:t>搜索</a:t>
            </a:r>
            <a:r>
              <a:rPr b="1" lang="zh-CN" sz="1000" spc="-1" strike="noStrike">
                <a:solidFill>
                  <a:srgbClr val="666666"/>
                </a:solidFill>
                <a:latin typeface="Arial"/>
                <a:ea typeface="Times New Roman"/>
              </a:rPr>
              <a:t>：网民在百度搜索自己关注的关键词信息</a:t>
            </a:r>
            <a:r>
              <a:rPr b="1" lang="zh-CN" sz="1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6" descr="1"/>
          <p:cNvPicPr/>
          <p:nvPr/>
        </p:nvPicPr>
        <p:blipFill>
          <a:blip r:embed="rId2"/>
          <a:stretch/>
        </p:blipFill>
        <p:spPr>
          <a:xfrm>
            <a:off x="1619280" y="3141720"/>
            <a:ext cx="5616720" cy="3166920"/>
          </a:xfrm>
          <a:prstGeom prst="rect">
            <a:avLst/>
          </a:prstGeom>
          <a:ln w="0">
            <a:noFill/>
          </a:ln>
        </p:spPr>
      </p:pic>
      <p:sp>
        <p:nvSpPr>
          <p:cNvPr id="51" name="矩形 8"/>
          <p:cNvSpPr/>
          <p:nvPr/>
        </p:nvSpPr>
        <p:spPr>
          <a:xfrm>
            <a:off x="0" y="312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9"/>
          <p:cNvSpPr/>
          <p:nvPr/>
        </p:nvSpPr>
        <p:spPr>
          <a:xfrm>
            <a:off x="720" y="34916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行楷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7464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搜索推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推广：企业的推广信息展现在关键词对应的搜索结果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4" descr="pic_2"/>
          <p:cNvPicPr/>
          <p:nvPr/>
        </p:nvPicPr>
        <p:blipFill>
          <a:blip r:embed="rId2"/>
          <a:srcRect l="10846" t="0" r="0" b="683"/>
          <a:stretch/>
        </p:blipFill>
        <p:spPr>
          <a:xfrm>
            <a:off x="2340000" y="2997360"/>
            <a:ext cx="377172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6"/>
          <p:cNvSpPr/>
          <p:nvPr/>
        </p:nvSpPr>
        <p:spPr>
          <a:xfrm>
            <a:off x="324000" y="76500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搜索推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7"/>
          <p:cNvSpPr/>
          <p:nvPr/>
        </p:nvSpPr>
        <p:spPr>
          <a:xfrm>
            <a:off x="900000" y="90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8"/>
          <p:cNvSpPr/>
          <p:nvPr/>
        </p:nvSpPr>
        <p:spPr>
          <a:xfrm>
            <a:off x="1095480" y="206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9"/>
          <p:cNvSpPr/>
          <p:nvPr/>
        </p:nvSpPr>
        <p:spPr>
          <a:xfrm>
            <a:off x="2149200" y="215100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击：用户点击推广信息进入企业网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0" descr="pic_3"/>
          <p:cNvPicPr/>
          <p:nvPr/>
        </p:nvPicPr>
        <p:blipFill>
          <a:blip r:embed="rId2"/>
          <a:srcRect l="10748" t="0" r="0" b="1136"/>
          <a:stretch/>
        </p:blipFill>
        <p:spPr>
          <a:xfrm>
            <a:off x="1763640" y="2997360"/>
            <a:ext cx="504036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2098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搜索推广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交：通过沟通了解，双方达成交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4" descr="pic_4"/>
          <p:cNvPicPr/>
          <p:nvPr/>
        </p:nvPicPr>
        <p:blipFill>
          <a:blip r:embed="rId2"/>
          <a:srcRect l="8296" t="0" r="0" b="-1360"/>
          <a:stretch/>
        </p:blipFill>
        <p:spPr>
          <a:xfrm>
            <a:off x="2411280" y="2997360"/>
            <a:ext cx="460872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2268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搜索推广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产生优质订单的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4" descr="serv_04"/>
          <p:cNvPicPr/>
          <p:nvPr/>
        </p:nvPicPr>
        <p:blipFill>
          <a:blip r:embed="rId2"/>
          <a:stretch/>
        </p:blipFill>
        <p:spPr>
          <a:xfrm>
            <a:off x="2195640" y="2997360"/>
            <a:ext cx="4657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4"/>
          <p:cNvSpPr/>
          <p:nvPr/>
        </p:nvSpPr>
        <p:spPr>
          <a:xfrm>
            <a:off x="755640" y="1052640"/>
            <a:ext cx="727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至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通过统计和旅游景区有关的产品在百度上的被搜索情况，发现仅仅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游景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词就被搜索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次，这意味着给在百度上参与竞价排名并注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游景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关键词的企业带来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次的商机。而通过传统方式，要获得等量商机，将花费数倍于网络营销的人力、财力。在这种情况下，抓住先机的企业，将首先胜出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5"/>
          <p:cNvSpPr/>
          <p:nvPr/>
        </p:nvSpPr>
        <p:spPr>
          <a:xfrm>
            <a:off x="826920" y="189000"/>
            <a:ext cx="720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：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图所显示统计数据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游景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词的用户关注度；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关注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某个关键词的在百度搜索中每日被搜索的频次。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游景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用户关注度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游景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关键词本月被搜索量约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次；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7" descr="BFE)MJ~OA%TRS3K9{LM(J(3"/>
          <p:cNvPicPr/>
          <p:nvPr/>
        </p:nvPicPr>
        <p:blipFill>
          <a:blip r:embed="rId2"/>
          <a:stretch/>
        </p:blipFill>
        <p:spPr>
          <a:xfrm>
            <a:off x="1116000" y="3357720"/>
            <a:ext cx="63388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0:45:03Z</dcterms:created>
  <dc:creator>pinpin工作</dc:creator>
  <dc:description/>
  <dc:language>en-US</dc:language>
  <cp:lastModifiedBy>user</cp:lastModifiedBy>
  <dcterms:modified xsi:type="dcterms:W3CDTF">2010-06-24T04:23:23Z</dcterms:modified>
  <cp:revision>20</cp:revision>
  <dc:subject/>
  <dc:title>幻灯片 1</dc:title>
</cp:coreProperties>
</file>