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F89-3280-411F-83B2-A7BEA28A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83C-5DD8-40C2-B95D-DA9C7C6F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7B5-1AE8-4F70-89D0-8E9C7EC8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7A6-3CC6-48F2-9486-161E0224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ADD-661F-41A2-A453-9A33FDEB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291-A805-42A0-B31C-79B6CE3A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3DE-3EC1-434B-98CB-455C90F4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E40-B28E-4B45-8E1E-2C148706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D8E-987F-445E-B174-D78A6015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337-153F-4199-B6D0-899A0A8A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B1A-4CF5-4761-9C8A-94994DBE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B11-8789-42D9-9732-07AB8346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6C40-FEAB-4BC6-99F3-7A86D33FB1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91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77160" y="1268280"/>
            <a:ext cx="7902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cff"/>
                </a:solidFill>
                <a:latin typeface="Arial"/>
                <a:ea typeface="楷体_GB2312"/>
              </a:rPr>
              <a:t>与你牵手走过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45964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2360" y="1052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不离不弃相伴一生</a:t>
            </a:r>
            <a:r>
              <a:rPr b="0" lang="zh-CN" sz="1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9396360" y="5950080"/>
            <a:ext cx="71640" cy="7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559640" cy="5545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1413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南海之滨 见证爱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220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----</a:t>
            </a:r>
            <a:r>
              <a:rPr b="1" lang="zh-CN" sz="1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沙滩婚礼策划方案</a:t>
            </a:r>
            <a:r>
              <a:rPr b="0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33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楷体_GB2312"/>
              </a:rPr>
              <a:t>一、沙滩婚礼仪式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836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  <a:ea typeface="楷体_GB2312"/>
              </a:rPr>
              <a:t>布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341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场地：亚龙湾假日度假酒店旁的海滩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6048360" cy="4249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8000" y="11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背景：浅蓝色的薄纱做成天蓬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0280" y="1773360"/>
            <a:ext cx="4586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240" y="1844640"/>
            <a:ext cx="729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ff"/>
                </a:solidFill>
                <a:latin typeface="Arial"/>
                <a:ea typeface="楷体_GB2312"/>
              </a:rPr>
              <a:t>白色地毯通向仪式台，地毯中间散落芬芳的玫瑰花瓣；</a:t>
            </a:r>
            <a:r>
              <a:rPr b="0" lang="zh-CN" sz="1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284720" y="115920"/>
            <a:ext cx="4680000" cy="662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260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0af6"/>
                </a:solidFill>
                <a:latin typeface="Arial"/>
                <a:ea typeface="楷体_GB2312"/>
              </a:rPr>
              <a:t>布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92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餐台：浅蓝色的薄纱缀在白色折叠椅背后，蓝色的蚕丝桌布和罗缎织的长条桌布时刻散发着大海的味道</a:t>
            </a: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,</a:t>
            </a:r>
            <a:r>
              <a:rPr b="0" lang="zh-CN" sz="1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纯洁的百合插满玻璃花瓶，嫩绿的草叶点缀其间，充满田园气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480360" cy="4176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640" y="1916280"/>
            <a:ext cx="7290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Arial"/>
                <a:ea typeface="楷体_GB2312"/>
              </a:rPr>
              <a:t>安排好休息区和来宾签到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42920" y="1125360"/>
            <a:ext cx="6667560" cy="44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150"/>
                            </p:stCondLst>
                            <p:childTnLst>
                              <p:par>
                                <p:cTn id="141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15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15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650"/>
                            </p:stCondLst>
                            <p:childTnLst>
                              <p:par>
                                <p:cTn id="160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650"/>
                            </p:stCondLst>
                            <p:childTnLst>
                              <p:par>
                                <p:cTn id="16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404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0af6"/>
                </a:solidFill>
                <a:latin typeface="Arial"/>
                <a:ea typeface="楷体_GB2312"/>
              </a:rPr>
              <a:t>餐饮</a:t>
            </a:r>
            <a:r>
              <a:rPr b="0" lang="zh-CN" sz="2800" spc="-1" strike="noStrike">
                <a:solidFill>
                  <a:srgbClr val="4d0af6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90792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酒水：香槟，鸡尾酒，白葡萄酒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72000" cy="375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640" y="191628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海鲜烧烤自助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92360" y="1052640"/>
            <a:ext cx="5618160" cy="54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99" dur="10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10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0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60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6600"/>
                            </p:stCondLst>
                            <p:childTnLst>
                              <p:par>
                                <p:cTn id="217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9800"/>
                            </p:stCondLst>
                            <p:childTnLst>
                              <p:par>
                                <p:cTn id="225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6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40360" y="1125360"/>
            <a:ext cx="4762440" cy="554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8360" y="333360"/>
            <a:ext cx="74185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蛋糕：一般为白色，上面可装饰玫瑰花和丝带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3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188280"/>
            <a:ext cx="29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婚宴仪式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19098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0af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4d0af6"/>
                </a:solidFill>
                <a:latin typeface="Arial"/>
              </a:rPr>
              <a:t>、新人时从新娘家出发，乘车抵达酒店；同时酒店这边负责引导来宾的签到和就坐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3709800"/>
            <a:ext cx="66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0af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4d0af6"/>
                </a:solidFill>
                <a:latin typeface="Arial"/>
              </a:rPr>
              <a:t>、新娘迎到后，电话通知乐队及氢气球负责人迅速到酒店接受氢气球安排乐队到位，协助人员负责按指定位置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5589000"/>
            <a:ext cx="5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0af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4d0af6"/>
                </a:solidFill>
                <a:latin typeface="Arial"/>
              </a:rPr>
              <a:t>、新郎新娘前往沙滩婚礼场地，会合亲友后后开始举行婚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6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500"/>
                            </p:stCondLst>
                            <p:childTnLst>
                              <p:par>
                                <p:cTn id="2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9200"/>
                            </p:stCondLst>
                            <p:childTnLst>
                              <p:par>
                                <p:cTn id="29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200"/>
                            </p:stCondLst>
                            <p:childTnLst>
                              <p:par>
                                <p:cTn id="301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3200"/>
                            </p:stCondLst>
                            <p:childTnLst>
                              <p:par>
                                <p:cTn id="307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0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6900"/>
                            </p:stCondLst>
                            <p:childTnLst>
                              <p:par>
                                <p:cTn id="3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418680"/>
            <a:ext cx="51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66ff"/>
                </a:solidFill>
                <a:latin typeface="Arial"/>
              </a:rPr>
              <a:t>在庄严的《婚礼进行曲》中，新娘由父亲带引在缤纷的玫瑰花瓣雨中迈入礼堂，交给新郎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85040" y="260280"/>
            <a:ext cx="10033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ff"/>
                </a:solidFill>
                <a:latin typeface="Arial"/>
              </a:rPr>
              <a:t>主持者问新郎新娘是否愿意接受对方？互相说完“我愿意”之后双方交换戒指，接吻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03280" y="404640"/>
            <a:ext cx="576108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700"/>
                            </p:stCondLst>
                            <p:childTnLst>
                              <p:par>
                                <p:cTn id="368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6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395280" y="765000"/>
            <a:ext cx="78487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cc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婚礼的那一刻浓缩了人生最精彩最浪漫的篇章，构成了美丽画卷中的一道亮丽风景，成就永恒经典 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877000"/>
            <a:ext cx="27716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0af6"/>
                </a:solidFill>
                <a:latin typeface="楷体_GB2312"/>
                <a:ea typeface="楷体_GB2312"/>
              </a:rPr>
              <a:t>策划人：金晶   郭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0af6"/>
                </a:solidFill>
                <a:latin typeface="楷体_GB2312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4d0af6"/>
                </a:solidFill>
                <a:latin typeface="楷体_GB2312"/>
                <a:ea typeface="楷体_GB2312"/>
              </a:rPr>
              <a:t>肖珊   高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8000"/>
                            </p:stCondLst>
                            <p:childTnLst>
                              <p:par>
                                <p:cTn id="3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1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19:34:00Z</dcterms:created>
  <dc:creator>Winder</dc:creator>
  <dc:description/>
  <dc:language>en-US</dc:language>
  <cp:lastModifiedBy>cface</cp:lastModifiedBy>
  <dcterms:modified xsi:type="dcterms:W3CDTF">2010-06-20T07:07:24Z</dcterms:modified>
  <cp:revision>7</cp:revision>
  <dc:subject/>
  <dc:title>幻灯片 1</dc:title>
</cp:coreProperties>
</file>